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44C-3CDD-4B89-82E4-21EE66D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52D-4379-486C-8F49-2FB233BD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B49-3E0C-483A-ABA8-61D957B8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E7D-1962-42DF-9568-15579339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546A-D314-4A30-8671-168169AA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D584-FC24-445D-A0F5-D4A97DF7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46D-F5B6-4716-AD97-97ABD6EE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F38F-8F24-426A-BD70-29624249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4176-A00E-40BB-BA67-B12E1B7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8E66-B43E-4A1D-B6BA-A9B6FC2B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B839-6857-4345-AC35-11CC704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C01-1571-46D5-8C22-B6CBE1DB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FF25-5168-4B0E-B35C-4527B5C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5A4-F90E-4169-AD96-09ED20F6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6AF3-1DFF-4138-B5D0-E9A17843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4C12-CB7D-4B83-9B5C-7A82C6BC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FA8-D2E1-4C08-838A-D4F5A6EF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5FF-89D9-44B6-8609-946ABECB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C27-1FF5-4F19-9F7E-31B29142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CC2-F49C-4E28-87AE-839CD759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792-F7FD-4A2A-861E-7CE7FBC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172-5A11-4768-B72C-0E63B23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DE3-A116-4D82-95BD-CB236646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9EF-F26E-4EC9-AA70-495AAD4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8019-3DA8-49C8-AB32-FC381A7DE9C8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92F8-9D0D-425D-9584-6186C3835637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Wash It Ou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yden H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Applica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y mom does laundry she can use the Tide Stain Release products to remove tough stai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ossibl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uses of Erro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id not allow each piece to stand for twenty-two hours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shing machine temperature was not the exact same for each load.                                   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rther Research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e and Oxiclean have the same ingredients in the powder portion, but only the Tide has the liquid portion, which made the towel cleaner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knowledgement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ould like to thank my Dad for helping me stain towel pieces and taking pictures. Also, I would like to thank my Mom and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dmother for getting supplies that I forgot in an emergency run to Hutchiso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OxiClean - FAQ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xiClean - Home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2011. &lt;http://www.oxiclean.com/FAQ.aspx&gt;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OxiClean - OxiCleanÂ® Max ForceÂ® POWER PAK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xiClean - Home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2011. &lt;http://www.oxiclean.com/in-wash/Products/oxiclean-max-force-power-paks.aspx&gt;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Tide (brand)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1. &lt;http://en.wikipedia.org/wiki/Tide_(brand)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Tide Stain Release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 10 Mar. 201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tide.com/en-US/categories/tide-stain-release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s.jspx&gt;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ll the more expensive Tide Stain Release Duo Pack be more effective on stain removal than the less expensive Oxiclean Max Force Power Pack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Hypothesis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 predict that the Tide Stain Release Duo Pack will remove the stains the best because it has a liquid stain remover as well a powder portio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35 by 50” 100% cotton tow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ashing Machi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cisso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ide Stain Release Duo Pack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xiclean Max Force Power Pack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2 Post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ide Laundry detergen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ashing Machine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pendant- The cleanliness of the material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dependent- Tide Stain Release Duo Pack and Oxiclean Max Force Power Pack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rol- Tide Laundry Detergent  with Acti-lift Technology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ocedure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ut towel into 35 equal pieces 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Stain towel pieces with 1/2 T. of chocolate syrup, soil, and ketchup (10 each)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et stand for 22 hrs.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Wash on Ultra Clean for 10 minutes on Heavy Duty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lue to poster with Tide being A, Oxiclean being B, and Control being C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Have Cleanliness Voters vote on the cleanliness of the material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ajor Observ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jor observation that I have is that plain Tide does not have the stain fighting power as with the additives. Also, Oxiclean leaves a pleasant clean smell, where Tide Stain Release has an unpleasant bleach smell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ide Stain Release Duo Pack won with 9/10 vote. The Oxiclean Max Force Power Packs lost by a close 6/10 vote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opinion is with the cleanliness voters. I believe that the Tide with the Stain Release cleaned the best on the majority of the stai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30:43Z</dcterms:created>
  <dc:creator>USD376</dc:creator>
  <dc:description/>
  <dc:language>en-US</dc:language>
  <cp:lastModifiedBy>STERLING  USD376</cp:lastModifiedBy>
  <dcterms:modified xsi:type="dcterms:W3CDTF">2011-03-11T14:56:58Z</dcterms:modified>
  <cp:revision>14</cp:revision>
  <dc:subject/>
  <dc:title>Wash It Out</dc:title>
</cp:coreProperties>
</file>